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BEED-AABB-41A5-8E6A-610B62E1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2E52-4C8E-4FA7-8719-1521D8A0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279A-327D-49C5-9B1A-F2BE549DC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3FC-B523-4DC9-A446-1316A711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E24D-F640-4324-A6DD-C52C17D9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9E1D-668D-4BF2-866E-6FC32DD6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8C62-7741-4241-8862-B98BCECA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2541-E42B-40D1-8264-1013E734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9AF-DB1C-4E45-8F52-5E89E975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65EA-1038-472C-B728-D7C252A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B79-816C-4C70-900F-0F5508AE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35B9-BCA4-46DE-8E59-E30618E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CD51-A24B-4D15-BB5A-D3B29A05D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6553080" y="6248520"/>
          <a:ext cx="2057400" cy="48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6248520"/>
                    <a:ext cx="2057400" cy="48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" name=""/>
          <p:cNvGraphicFramePr/>
          <p:nvPr/>
        </p:nvGraphicFramePr>
        <p:xfrm>
          <a:off x="228600" y="6477120"/>
          <a:ext cx="1676520" cy="268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6477120"/>
                    <a:ext cx="1676520" cy="2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" name=""/>
          <p:cNvSpPr/>
          <p:nvPr/>
        </p:nvSpPr>
        <p:spPr>
          <a:xfrm>
            <a:off x="0" y="6400800"/>
            <a:ext cx="571500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838080" y="2590920"/>
            <a:ext cx="7391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EA’s Relationship with ABs of Countries not being Members of the EU or EF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Graham Talb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新細明體"/>
              </a:rPr>
              <a:t>Chairman, 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24160" y="29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5410080" cy="17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Impact of Regulation 765/2008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UT …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eptance in the EU of conformity assessment attestation certificates issued under accreditation by non-European ABs does not depend on the recognition between 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Verdana"/>
              </a:rPr>
              <a:t>Acceptance of accredited conformity assessment attestations in the 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oluntary Conformity Assessment are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nformity assessment attestations issued under accreditation by non-European ABs not complying with the new European requirements, but signatories to IAF and ILAC MLA/MRA, can continue to be used on the European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pecifiers and the marketplace are free to decide on accep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Verdana"/>
              </a:rPr>
              <a:t>Acceptance of accredited conformity assessment attestations in the E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ndatory conformity assessment area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tional authorities of EU Member state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may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efuse  attestations of conformity  issued under accreditation by non-European ABs not complying with the new European requirements but signatories to IAF and ILAC MLA/M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cept where an EU to Country MRA is in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Policy for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rafting of Policy started prior to Regulation 765/2008 being agr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o reinforce acceptance of the ILAC Mutual Recognition Arrangement and the IAF Multilateral Agreement as the means of demonstrating equal reliability of accredited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duce administrative burden on 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Proposed EA Policy on BLAs and Cooperation Agre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reditation bodies that have a Bilateral Agreement (BLA) with EA shall, by 1 January 2012, be required to meet the same requirements as an EA Full Member that is a signatory to the EA M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creditation bodies that have a Cooperation Agreement with EA shall, by 1 January 2012, be required to meet the same requirements as an EA Full Member that is not an MLA sign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Policy for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Verdana"/>
              </a:rPr>
              <a:t>EA-1/13 published in April 200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lationships with accreditation bodies in countries that are not EU/EFTA neighbour countries should be managed through the ILAC or IAF arrangements and so no special policy or status is needed for these countri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Policy for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 certain exceptional cases, EA could offer to accreditation bodies from some of these countries the possibility of signing a Cooperation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nly if either the European Commission or EFTA asks EA to sign a Cooperation Agreement, or if EA decides, for whatever reason, it has an interest in signing a Cooperation Agre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Policy for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operation Agreement only 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e AB meets all the specific requirements established by EA to meet Regulation 7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 AB, having signed a Cooperation Agreement and willing to sign a bilateral agreement shall be evaluated by EA using EA qualified evaluators and under the full control of the EA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Policy for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urther develop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rticle of Association – neighbourhood country ABs to be Associate Members of 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view of existing Contracts of Cooperation and Bilateral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stablish rights and obligations for any future Cooperation Agre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57280" y="2286000"/>
            <a:ext cx="4429440" cy="1143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The New European Legislative Pack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gulation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(EC) 765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ts out requirements for accreditation and market 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ecision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768/2008/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common framework for the marketing of produ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gu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EC) 764/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relating to national technical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Regulation (EC) 765/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ccredi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Verdana"/>
              </a:rPr>
              <a:t>One National Accreditation Body (NAB) per Member State (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Verdana"/>
              </a:rPr>
              <a:t>Public authority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Verdana"/>
              </a:rPr>
              <a:t>Independent, not-for-pro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Not compete with conformity assessment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Appropriately resourced by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NABs to be members of 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alanced participation of interested 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Regulation (EC) 765/200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846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Other accreditation require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Non-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ross-frontier accreditation restri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nformity assessment bodies must not impose excessive burden on economic 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Monitoring/peer eval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The Role of 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EA recognised as formal European accreditation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Guidelines established between EA and the European Commission, EFTA and the national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Framework Partnership Agreement to be establis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The Challenges for 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nsistent approach for the assessment of Notified Bo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Build upon existing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Continually improve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Stronger, more professional 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Association of A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Technical competence and expertise of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Robust peer evaluation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Verdana"/>
              </a:rPr>
              <a:t>Improved adminis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Impact on EA’s Relationships with ABs from outside Euro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e European Commission recogni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e continued value of accreditation to underpin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That EA should maintain full collaboration with other Regional accreditation co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Verdana"/>
              </a:rPr>
              <a:t>EA should maintain strong links with ILAC and I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ccredited reports and certificates issued under the accreditation of an ILAC or IAF accreditation body signatory are considered to be </a:t>
            </a:r>
            <a:r>
              <a:rPr b="0" lang="da-DK" sz="2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equally reliable</a:t>
            </a:r>
            <a:r>
              <a:rPr b="0" lang="da-DK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to those issued under accreditation within the EA MLA and Bilateral Agree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3333cc"/>
                </a:solidFill>
                <a:latin typeface="Verdana"/>
              </a:rPr>
              <a:t>EA Recogn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ccreditation bodies that are not Members of EA may not meet all of the criteria specified in Regulation (EC) 765/2008 that EA Members have to meet from 1 January 2010</a:t>
            </a:r>
            <a:r>
              <a:rPr b="0" lang="da-DK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(e.g, appointed by Government as a single national accreditation body, recognized by the Government as acting with public authority, being independent of commercial motivations and non-profit distributing, not competing with other accreditation bodies, not performing cross-frontier accreditation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4T14:16:44Z</dcterms:created>
  <dc:creator/>
  <dc:description/>
  <dc:language>en-US</dc:language>
  <cp:lastModifiedBy>Graham Talbot</cp:lastModifiedBy>
  <dcterms:modified xsi:type="dcterms:W3CDTF">2009-08-10T16:30:04Z</dcterms:modified>
  <cp:revision>132</cp:revision>
  <dc:subject/>
  <dc:title>European Co-operation for Accreditation</dc:title>
</cp:coreProperties>
</file>